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8FF-01D0-455C-9FA2-A054F775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ED7-609A-41D7-BA32-24BEB37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C33-D40C-4756-8A74-2AD34CCF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836-27C1-46CA-8BB0-760E5101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52B8-1626-4218-BBEE-B99183C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54A7-8347-4EE5-AC37-C05D72DE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B517-B532-4545-9736-DE3755B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3D38-48DB-4C8A-B747-83512198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7C0C-BA0E-4C7A-A8C0-9529FF7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1BD-3A4B-44B8-A66A-2612A8BF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E7C-992A-4BFD-9229-98A3DA1F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845-85B9-48EA-BD2B-FAC49D60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EBDD-EEFA-48C9-A6AA-7D9768B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D49-A42F-4B30-8CBF-C399AEF5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B47E-327F-41D9-A9F0-62B38CB1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60F-EF01-4F55-BACB-78CE3F25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434A-E92F-4DB1-A131-9944EC31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1A6-6277-4A9E-A05C-10BD374F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895-8C24-4BC1-9C3F-C95C590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176-6A18-47B9-87B5-0DE0FC7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563-2F0E-4C9E-8E84-F79F4829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8DD-D53C-40E0-A654-B47CEBF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1C5-AA15-49B9-845B-41B5AB12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1ED-B438-4D1C-8E40-706162A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2CBF-BD20-4CB1-A5B0-3F2AE1C125F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78E0-7775-4124-AC96-15D4F752210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oryofknowledge.net/areas-of-knowledge/history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HISTORY 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3640" y="3357720"/>
            <a:ext cx="828036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Joëlle 20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cc00"/>
                </a:solidFill>
                <a:latin typeface="Arial Black"/>
              </a:rPr>
              <a:t>SOURCES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for the IB Diploma Van de Lagemaat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1400" spc="-1" strike="noStrike">
                <a:solidFill>
                  <a:srgbClr val="ffcc00"/>
                </a:solidFill>
                <a:latin typeface="Arial Black"/>
              </a:rPr>
              <a:t>(Oxford univ.press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 /Sue Bastian (Pearson Baccalaureate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theoryofknowledge.net/areas-of-knowledge/history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9286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relationship 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histori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era of the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he events                                    the audi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.which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CULTURAL PARADIGM**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71" name=""/>
          <p:cNvCxnSpPr>
            <a:stCxn id="370" idx="3"/>
            <a:endCxn id="370" idx="1"/>
          </p:cNvCxnSpPr>
          <p:nvPr/>
        </p:nvCxnSpPr>
        <p:spPr>
          <a:xfrm flipH="1">
            <a:off x="826560" y="4493880"/>
            <a:ext cx="777312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2" name=""/>
          <p:cNvCxnSpPr>
            <a:endCxn id="370" idx="3"/>
          </p:cNvCxnSpPr>
          <p:nvPr/>
        </p:nvCxnSpPr>
        <p:spPr>
          <a:xfrm>
            <a:off x="4500360" y="2060640"/>
            <a:ext cx="409932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3" name=""/>
          <p:cNvCxnSpPr>
            <a:stCxn id="370" idx="1"/>
          </p:cNvCxnSpPr>
          <p:nvPr/>
        </p:nvCxnSpPr>
        <p:spPr>
          <a:xfrm flipV="1">
            <a:off x="826560" y="2060280"/>
            <a:ext cx="352836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Historical proc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Kuhn´s model applied to histor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raditional scho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Revisionist school                     new evid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aradigm shift/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Change of attitu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3068640"/>
            <a:ext cx="1512720" cy="86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340000" y="3068280"/>
            <a:ext cx="1295280" cy="863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572000" y="4437000"/>
            <a:ext cx="1944720" cy="1079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195280" y="4365360"/>
            <a:ext cx="230508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proces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an cannot (re)run experi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cal evidence is in continuous renew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appears to work in dualities of concep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Great persons and great movement theory /certainty and uncertain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n historical fact has little worth without interpre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should aim to be objective, but not sterile or value-fre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OL OF THE HISTORICAL INQUIRY?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PRIM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account of people who lived at the time of the actual event or mov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SECOND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Are written much lated and based  upon selected primary sour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trenghts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PRIMARY SOURC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ccount from people who lived at the time . Eye witnesses and 1st hand knowledge. 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SECONDARY SOURCE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haustive survey of all available sources 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da-DK" sz="2800" spc="-1" strike="noStrike" u="sng">
                <a:solidFill>
                  <a:srgbClr val="ffcc00"/>
                </a:solidFill>
                <a:uFillTx/>
                <a:latin typeface="Arial"/>
              </a:rPr>
              <a:t>insight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: What turned out to be importa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782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POTENTIAL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problems and limitations of historical knowledg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RIMARY SOURC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KNOWLEDGE CONVEYORS (WOK)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language perception emotion) can distort the production of primary sourc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(Eg massacre/Ethnic cleansin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FALLIBLE EYEWITNES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events might be exaggerated, played down or ignor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SOCIAL BIAS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ritten by a social elite/ ”the winners”, powerful, educated, the court, the chur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econdary 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selection of a selecti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ole of intent: purpose/preconception of the historian. While there are other perspectives, history is written and judged from the vantage point of the historian and the audi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he tendency to focus on the extraordinary at the expense of the ordinary, to impose order  or find pattern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Multiple perspectives= conflicting vie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Hinsight bi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School of thought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(Great persons versus great movements theorie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900000" y="301320"/>
            <a:ext cx="100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Knowledge as histor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a-DK" sz="3200" spc="-1" strike="noStrike">
                <a:solidFill>
                  <a:srgbClr val="ffffff"/>
                </a:solidFill>
                <a:latin typeface="Arial"/>
              </a:rPr>
              <a:t>THE KNOWER´S COMMON INHERITANC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Confucianism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”the cultivation of the ”gentleman” or the superior learner”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When you know a thing, to hold that you know itm and when you do not know a thing, to allow that you do not know it, this is knowledge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Confucius 6th BC  ”Analect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BOUDHISM*:</a:t>
            </a:r>
            <a:br>
              <a:rPr sz="3200"/>
            </a:b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The cultivation of wisdom and compass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All created  things are transitory (impermanent, changing): those who realize this are freed from suffering. This is the pas that leads to pure widsdom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Walpola Rahula, Buddhist schol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*India, South/East As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What is history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´”The” / ”A” story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The story of the past as of the present traces of the past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A record of significant events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It is the formal study of selected areas of histo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Israelites: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Jewish teachings-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Monotheism and the cultivation of justi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vision of monotheism (Yaweh that represented the name of an omnipresent and mysterious God ) allied to ethical behaviour and social justice, was the powerful combination that greatly influenced the ideas and practices of the later religions of Christianity and Islam, touching a considerable proportion of humanity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EECE: 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cultivation of rationalism and ”Eudemonia”*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Greeks  faith in the capacity of human reasoning  and a commitment to eudemonia allowed the construction of the  foundations of some of humanity’s great historical achievements, including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political democraty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rational debate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inquiry,  the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scientific method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aesthetic catharsi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*”Eudemonia” means the flourishing of the human body and sou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FUNCTION OF HISTORY</a:t>
            </a:r>
            <a:br>
              <a:rPr sz="4400"/>
            </a:b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  Why do history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Try to imagine what it would be like to live in a society where there was absolutely no knowledge of the past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rthur Marwick ”The Fundamentals of History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Other functions of history 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elebration of achieveme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ndemnation of practices of a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egret/Revis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histories are written as apologi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planation/Justification of ac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llective memor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o provide a group ident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80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e can´t understand the present without references to the pa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he past explains the presen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ll knowledge is historical knowledge             (as it lay in the pas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uman construct collective identity through the past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history of human kind is the history of knowledge development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it enriches our understanding of human natur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3333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re ?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more ……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999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simple interest in what happened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ruth in history cannot be claimed except in terms of  historical fact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way of acquiring the ‘contextual knowledge’ of literature, paintings, and other words of ar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Developing a sense of ‘scepticism and caution’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defence against propag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reflection about multiple perspectiv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Because humans are metacognitive or self-analytic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 Black"/>
              </a:rPr>
              <a:t>More functions again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ay be academic amb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(radical new theories on why an event happened always make a big intellectual impac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oney (history books can be bestsellers, and get their authors into the popular pres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o forward an ideological pos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attack or defend a gover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or toe the political line of the nation in which the history account is writte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UTH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596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i="1" lang="da-DK" sz="2000" spc="-1" strike="noStrike">
                <a:solidFill>
                  <a:srgbClr val="ffcc00"/>
                </a:solidFill>
                <a:latin typeface="Arial Black"/>
              </a:rPr>
              <a:t>What is the nature of truth in history 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based on historical fac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can be approached from multiple perspecti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sensitive to paradigm shifts and interpret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cc00"/>
                </a:solidFill>
                <a:latin typeface="Arial"/>
              </a:rPr>
              <a:t>(correspondance+ coherence+ pragmatic are use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METHODOLOG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Is History a science or an art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4680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ll history is a combination of fact and interpretat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Facts are selected from what is availab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Interpretation arises from the intent of the historian and reflects the prevailing valu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of his or her society (cultural paradigm)**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6:18:28Z</dcterms:created>
  <dc:creator>Joelle</dc:creator>
  <dc:description/>
  <dc:language>en-US</dc:language>
  <cp:lastModifiedBy>Joelle</cp:lastModifiedBy>
  <dcterms:modified xsi:type="dcterms:W3CDTF">2012-08-14T18:28:20Z</dcterms:modified>
  <cp:revision>13</cp:revision>
  <dc:subject/>
  <dc:title>HISTORY </dc:title>
</cp:coreProperties>
</file>