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605-A1B1-4FE0-A3D1-333110D7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AAB-AF47-4158-8D23-EE1B9B0A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01F-48D0-452D-BCE3-CB056AAB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636-7A17-4E45-A4BB-29787CAE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8340-AD75-4F5E-AEE7-4B7C7461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AB07-6A45-435D-9596-AD829116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CC0B-A7C3-4C0B-AA77-24136210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BACF-6979-4E3D-B5DA-C1D9F370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21F5-9C0E-44BE-BF8F-AA25D1B2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8BBB-B03F-4DA1-94B4-5E2FD814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554D-68C6-42A1-BF88-5ABC84BC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B008-B8CB-4B05-87D7-31E49971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32EC-F7AA-4463-8E7E-5F4E198B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F73B-9322-482D-8BCF-06E13DFF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65D0-6251-47ED-97CE-68A7CA40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4007-5736-4042-93CA-24A2E672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792C-AB9B-4A22-A162-B8247192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EA0-1A06-440C-8707-DD684F06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150E-1962-42E4-92A2-1EF7A664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FCE-A7C6-41A8-BA60-0DA9D06F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6BC-A343-458F-ABBC-91F687F7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3273-F744-41E8-9F12-A2218AB4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B31A-0F7B-4122-91DE-62233914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E37-C970-43CF-90E6-8BEB3EDE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B8D5-3A4B-4E1C-BE9A-F2D5A1CE340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708E-7A34-4A5B-8781-86B5458308D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heoryofknowledge.net/areas-of-knowledge/history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HISTORY 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23640" y="3357720"/>
            <a:ext cx="8280360" cy="26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                               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Joëlle 20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cc00"/>
                </a:solidFill>
                <a:latin typeface="Arial Black"/>
              </a:rPr>
              <a:t>SOURCES: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cc00"/>
                </a:solidFill>
                <a:latin typeface="Arial Black"/>
              </a:rPr>
              <a:t>TOK for the IB Diploma Van de Lagemaat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a-DK" sz="1400" spc="-1" strike="noStrike">
                <a:solidFill>
                  <a:srgbClr val="ffcc00"/>
                </a:solidFill>
                <a:latin typeface="Arial Black"/>
              </a:rPr>
              <a:t>(Oxford univ.press)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cc00"/>
                </a:solidFill>
                <a:latin typeface="Arial Black"/>
              </a:rPr>
              <a:t>TOK  /Sue Bastian (Pearson Baccalaureate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http://www.theoryofknowledge.net/areas-of-knowledge/history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9286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A dynamic relationship 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The historia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                         </a:t>
            </a: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era of the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the events                                    the audie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.which reflects the values of the tim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                  </a:t>
            </a: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CULTURAL PARADIGM**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cxnSp>
        <p:nvCxnSpPr>
          <p:cNvPr id="371" name=""/>
          <p:cNvCxnSpPr>
            <a:stCxn id="370" idx="3"/>
            <a:endCxn id="370" idx="1"/>
          </p:cNvCxnSpPr>
          <p:nvPr/>
        </p:nvCxnSpPr>
        <p:spPr>
          <a:xfrm flipH="1">
            <a:off x="826560" y="4493880"/>
            <a:ext cx="7773120" cy="1080"/>
          </a:xfrm>
          <a:prstGeom prst="straightConnector1">
            <a:avLst/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372" name=""/>
          <p:cNvCxnSpPr>
            <a:endCxn id="370" idx="3"/>
          </p:cNvCxnSpPr>
          <p:nvPr/>
        </p:nvCxnSpPr>
        <p:spPr>
          <a:xfrm>
            <a:off x="4500360" y="2060640"/>
            <a:ext cx="4099320" cy="2434320"/>
          </a:xfrm>
          <a:prstGeom prst="straightConnector1">
            <a:avLst/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373" name=""/>
          <p:cNvCxnSpPr>
            <a:stCxn id="370" idx="1"/>
          </p:cNvCxnSpPr>
          <p:nvPr/>
        </p:nvCxnSpPr>
        <p:spPr>
          <a:xfrm flipV="1">
            <a:off x="826560" y="2060280"/>
            <a:ext cx="3528360" cy="243432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Historical proce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cc00"/>
                </a:solidFill>
                <a:latin typeface="Arial Black"/>
              </a:rPr>
              <a:t>Kuhn´s model applied to history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cc00"/>
                </a:solidFill>
                <a:latin typeface="Arial Black"/>
              </a:rPr>
              <a:t>            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Traditional schoo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Revisionist school                     new evide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                      </a:t>
            </a: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Paradigm shift/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Change of attitud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3068640"/>
            <a:ext cx="1512720" cy="865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340000" y="3068280"/>
            <a:ext cx="1295280" cy="8636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572000" y="4437000"/>
            <a:ext cx="1944720" cy="10796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195280" y="4365360"/>
            <a:ext cx="2305080" cy="11509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A dynamic proces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istory reflects the values of the tim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istorian cannot (re)run experimen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istorical evidence is in continuous renewa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istory appears to work in dualities of concept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Great persons and great movement theory /certainty and uncertain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n historical fact has little worth without interpreta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istory should aim to be objective, but not sterile or value-fre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OOL OF THE HISTORICAL INQUIRY?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8b17"/>
                </a:solidFill>
                <a:latin typeface="Arial Black"/>
              </a:rPr>
              <a:t>PRIMARY SOURCES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The account of people who lived at the time of the actual event or move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8b17"/>
                </a:solidFill>
                <a:latin typeface="Arial Black"/>
              </a:rPr>
              <a:t>SECONDARY SOURCES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Are written much lated and based  upon selected primary sourc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Strenghts 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PRIMARY SOURCE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Account from people who lived at the time . Eye witnesses and 1st hand knowledge. A product of its tim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SECONDARY SOURCES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Exhaustive survey of all available sources 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da-DK" sz="2800" spc="-1" strike="noStrike" u="sng">
                <a:solidFill>
                  <a:srgbClr val="ffcc00"/>
                </a:solidFill>
                <a:uFillTx/>
                <a:latin typeface="Arial"/>
              </a:rPr>
              <a:t>insight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: What turned out to be important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A product of its tim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7822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da-DK" sz="3200" spc="-1" strike="noStrike">
                <a:solidFill>
                  <a:srgbClr val="ffffff"/>
                </a:solidFill>
                <a:latin typeface="Arial Black"/>
              </a:rPr>
              <a:t>POTENTIAL  </a:t>
            </a: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problems and limitations of historical knowledg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PRIMARY SOURCE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8b17"/>
                </a:solidFill>
                <a:latin typeface="Arial Black"/>
              </a:rPr>
              <a:t>KNOWLEDGE CONVEYORS (WOK)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(language perception emotion) can distort the production of primary sourc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400" spc="-1" strike="noStrike">
                <a:solidFill>
                  <a:srgbClr val="ffcc00"/>
                </a:solidFill>
                <a:latin typeface="Arial Black"/>
              </a:rPr>
              <a:t>(Eg massacre/Ethnic cleansing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a-DK" sz="2400" spc="-1" strike="noStrike">
                <a:solidFill>
                  <a:srgbClr val="ff8b17"/>
                </a:solidFill>
                <a:latin typeface="Arial Black"/>
              </a:rPr>
              <a:t>FALLIBLE EYEWITNES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Some events might be exaggerated, played down or ignore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8b17"/>
                </a:solidFill>
                <a:latin typeface="Arial Black"/>
              </a:rPr>
              <a:t>SOCIAL BIASE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Written by a social elite/ ”the winners”, powerful, educated, the court, the church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Secondary sour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A selection of a selection: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Role of intent: purpose/preconception of the historian. While there are other perspectives, history is written and judged from the vantage point of the historian and the audi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The tendency to focus on the extraordinary at the expense of the ordinary, to impose order  or find pattern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Multiple perspectives= conflicting view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Hinsight bi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School of thought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(Great persons versus great movements theories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900000" y="301320"/>
            <a:ext cx="100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Knowledge as history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da-DK" sz="3200" spc="-1" strike="noStrike">
                <a:solidFill>
                  <a:srgbClr val="ffffff"/>
                </a:solidFill>
                <a:latin typeface="Arial"/>
              </a:rPr>
              <a:t>THE KNOWER´S COMMON INHERITANC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Confucianism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”the cultivation of the ”gentleman” or the superior learner”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3200" spc="-1" strike="noStrike">
                <a:solidFill>
                  <a:srgbClr val="ffcc00"/>
                </a:solidFill>
                <a:latin typeface="Arial"/>
              </a:rPr>
              <a:t>”</a:t>
            </a:r>
            <a:r>
              <a:rPr b="0" i="1" lang="da-DK" sz="3200" spc="-1" strike="noStrike">
                <a:solidFill>
                  <a:srgbClr val="ffcc00"/>
                </a:solidFill>
                <a:latin typeface="Arial"/>
              </a:rPr>
              <a:t>When you know a thing, to hold that you know itm and when you do not know a thing, to allow that you do not know it, this is knowledge</a:t>
            </a:r>
            <a:r>
              <a:rPr b="0" lang="da-DK" sz="3200" spc="-1" strike="noStrike">
                <a:solidFill>
                  <a:srgbClr val="ffcc00"/>
                </a:solidFill>
                <a:latin typeface="Arial"/>
              </a:rPr>
              <a:t>”</a:t>
            </a:r>
            <a:r>
              <a:rPr b="0" lang="da-DK" sz="3200" spc="-1" strike="noStrike">
                <a:solidFill>
                  <a:srgbClr val="ffcc00"/>
                </a:solidFill>
                <a:latin typeface="Arial Black"/>
              </a:rPr>
              <a:t>                               </a:t>
            </a:r>
            <a:r>
              <a:rPr b="0" lang="da-DK" sz="3200" spc="-1" strike="noStrike">
                <a:solidFill>
                  <a:srgbClr val="ffcc00"/>
                </a:solidFill>
                <a:latin typeface="Arial"/>
              </a:rPr>
              <a:t>Confucius 6th BC  ”Analects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Arial"/>
              </a:rPr>
              <a:t>BOUDHISM*:</a:t>
            </a:r>
            <a:br>
              <a:rPr sz="3200"/>
            </a:br>
            <a:r>
              <a:rPr b="1" lang="da-DK" sz="3200" spc="-1" strike="noStrike">
                <a:solidFill>
                  <a:srgbClr val="ffffff"/>
                </a:solidFill>
                <a:latin typeface="Arial"/>
              </a:rPr>
              <a:t>The cultivation of wisdom and compass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400" spc="-1" strike="noStrike">
                <a:solidFill>
                  <a:srgbClr val="ffcc00"/>
                </a:solidFill>
                <a:latin typeface="Arial"/>
              </a:rPr>
              <a:t>”</a:t>
            </a:r>
            <a:r>
              <a:rPr b="1" i="1" lang="da-DK" sz="2400" spc="-1" strike="noStrike">
                <a:solidFill>
                  <a:srgbClr val="ffcc00"/>
                </a:solidFill>
                <a:latin typeface="Arial"/>
              </a:rPr>
              <a:t>All created  things are transitory (impermanent, changing): those who realize this are freed from suffering. This is the pas that leads to pure widsdom”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1" lang="da-DK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a-DK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a-DK" sz="2000" spc="-1" strike="noStrike">
                <a:solidFill>
                  <a:srgbClr val="ffcc00"/>
                </a:solidFill>
                <a:latin typeface="Arial"/>
              </a:rPr>
              <a:t>Walpola Rahula, Buddhist schola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400" spc="-1" strike="noStrike">
                <a:solidFill>
                  <a:srgbClr val="ffcc00"/>
                </a:solidFill>
                <a:latin typeface="Arial Black"/>
              </a:rPr>
              <a:t>*India, South/East Asi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What is history 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3534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cc00"/>
                </a:solidFill>
                <a:latin typeface="Arial"/>
              </a:rPr>
              <a:t>´”The” / ”A” story of the pas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cc00"/>
                </a:solidFill>
                <a:latin typeface="Arial"/>
              </a:rPr>
              <a:t>The story of the past as of the present traces of the past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cc00"/>
                </a:solidFill>
                <a:latin typeface="Arial"/>
              </a:rPr>
              <a:t>A record of significant events of the pas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cc00"/>
                </a:solidFill>
                <a:latin typeface="Arial"/>
              </a:rPr>
              <a:t>It is the formal study of selected areas of histor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The Israelites: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Jewish teachings-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Monotheism and the cultivation of justic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A vision of monotheism (Yaweh that represented the name of an omnipresent and mysterious God ) allied to ethical behaviour and social justice, was the powerful combination that greatly influenced the ideas and practices of the later religions of Christianity and Islam, touching a considerable proportion of humanity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GREECE: 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The cultivation of rationalism and ”Eudemonia”*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The Greeks  faith in the capacity of human reasoning  and a commitment to eudemonia allowed the construction of the  foundations of some of humanity’s great historical achievements, including </a:t>
            </a:r>
            <a:r>
              <a:rPr b="1" lang="da-DK" sz="2400" spc="-1" strike="noStrike" u="sng">
                <a:solidFill>
                  <a:srgbClr val="ffcc00"/>
                </a:solidFill>
                <a:uFillTx/>
                <a:latin typeface="Arial"/>
              </a:rPr>
              <a:t>political democraty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1" lang="da-DK" sz="2400" spc="-1" strike="noStrike" u="sng">
                <a:solidFill>
                  <a:srgbClr val="ffcc00"/>
                </a:solidFill>
                <a:uFillTx/>
                <a:latin typeface="Arial"/>
              </a:rPr>
              <a:t>rational debate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and inquiry,  the </a:t>
            </a:r>
            <a:r>
              <a:rPr b="1" lang="da-DK" sz="2400" spc="-1" strike="noStrike" u="sng">
                <a:solidFill>
                  <a:srgbClr val="ffcc00"/>
                </a:solidFill>
                <a:uFillTx/>
                <a:latin typeface="Arial"/>
              </a:rPr>
              <a:t>scientific method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and </a:t>
            </a:r>
            <a:r>
              <a:rPr b="1" lang="da-DK" sz="2400" spc="-1" strike="noStrike" u="sng">
                <a:solidFill>
                  <a:srgbClr val="ffcc00"/>
                </a:solidFill>
                <a:uFillTx/>
                <a:latin typeface="Arial"/>
              </a:rPr>
              <a:t>aesthetic catharsis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*”Eudemonia” means the flourishing of the human body and soul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FUNCTION OF HISTORY</a:t>
            </a:r>
            <a:br>
              <a:rPr sz="4400"/>
            </a:b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    Why do history 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"</a:t>
            </a:r>
            <a:r>
              <a:rPr b="1" i="1" lang="da-DK" sz="2400" spc="-1" strike="noStrike">
                <a:solidFill>
                  <a:srgbClr val="ffcc00"/>
                </a:solidFill>
                <a:latin typeface="Arial"/>
              </a:rPr>
              <a:t>Try to imagine what it would be like to live in a society where there was absolutely no knowledge of the past.”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rthur Marwick ”The Fundamentals of History”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ffffff"/>
                </a:solidFill>
                <a:latin typeface="Arial Black"/>
              </a:rPr>
              <a:t>Other functions of history ?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Celebration of achievemen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Condemnation of practices of a tim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Regret/Revison: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Some histories are written as apologia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Explanation/Justification of act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Collective memory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To provide a group identi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80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We can´t understand the present without references to the pa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(The past explains the presen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ll knowledge is historical knowledge             (as it lay in the pas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uman construct collective identity through the past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The history of human kind is the history of knowledge development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(it enriches our understanding of human nature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"/>
          <p:cNvSpPr/>
          <p:nvPr/>
        </p:nvSpPr>
        <p:spPr>
          <a:xfrm>
            <a:off x="1403280" y="33336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ore ?..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d more ……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999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 simple interest in what happened 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(truth in history cannot be claimed except in terms of  historical facts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 way of acquiring the ‘contextual knowledge’ of literature, paintings, and other words of ar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Developing a sense of ‘scepticism and caution’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 defence against propagand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 reflection about multiple perspectiv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Because humans are metacognitive or self-analytic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3963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Arial Black"/>
              </a:rPr>
              <a:t>More functions again…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may be academic ambi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(radical new theories on why an event happened always make a big intellectual impac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money (history books can be bestsellers, and get their authors into the popular press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to forward an ideological posi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attack or defend a governmen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or toe the political line of the nation in which the history account is written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RUTH 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5964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i="1" lang="da-DK" sz="2000" spc="-1" strike="noStrike">
                <a:solidFill>
                  <a:srgbClr val="ffcc00"/>
                </a:solidFill>
                <a:latin typeface="Arial Black"/>
              </a:rPr>
              <a:t>What is the nature of truth in history 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Truth is based on historical fac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Truth can be approached from multiple perspectiv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Truth is sensitive to paradigm shifts and interpretat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ffcc00"/>
                </a:solidFill>
                <a:latin typeface="Arial"/>
              </a:rPr>
              <a:t>(correspondance+ coherence+ pragmatic are used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 Black"/>
              </a:rPr>
              <a:t>METHODOLOGY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 Black"/>
              </a:rPr>
              <a:t>Is History a science or an art 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4680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All history is a combination of fact and interpretation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Facts are selected from what is availab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Interpretation arises from the intent of the historian and reflects the prevailing value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of his or her society (cultural paradigm)**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16:18:28Z</dcterms:created>
  <dc:creator>Joelle</dc:creator>
  <dc:description/>
  <dc:language>en-US</dc:language>
  <cp:lastModifiedBy>Joelle</cp:lastModifiedBy>
  <dcterms:modified xsi:type="dcterms:W3CDTF">2012-08-14T18:28:20Z</dcterms:modified>
  <cp:revision>13</cp:revision>
  <dc:subject/>
  <dc:title>HISTORY </dc:title>
</cp:coreProperties>
</file>